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DE-3CDF-4249-8D3C-9D4FF3A8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B97-0536-4DB2-98C9-3A9C818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D5C-A073-438A-8664-6448E0DF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A7C-3FDD-4EB4-B36C-6779EC00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281-D994-4B78-84F0-8CB664D7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001F-E1A6-42FF-A5FD-55E58C5D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6364-ECA9-4A04-AE3A-0AE34ED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494E-DA0A-440E-8D6E-47084DC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A129-98CC-4887-81E2-B55CADFB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C78F-7AB0-4108-9F59-BBFD457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62A-E97E-4BAA-A728-ABEA97B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054-C9A0-4FA7-92A4-8AACF8AE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1751-4B45-44CD-B792-8D2DA90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C8D-F775-4026-A908-4DFEA0C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757E-3D99-4AE1-91DE-B6B045C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222-E569-460B-8BD6-9786E018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8A75-2CDA-4B72-B099-3862938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70D0-72CC-4BBF-9770-2FC387FF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6B2C-AC8B-4DDD-B263-F662327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2B30-5199-4E72-B502-BD897E0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7E1E-8748-4744-97ED-770F4F9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6058-3A21-4A80-ADC5-C21CD78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7D1-4E36-4377-846F-1D65CC85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43EC-5EF4-4B73-9710-C697E6EA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CAF8-F8A6-4DDB-930F-B275269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62C3-FFCC-4EEF-9DC0-61058CC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385B-8C28-4DAD-B2F6-BC3628DD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BC0E-FA5D-4A40-B9C5-75445EF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7D5C-7198-42F2-87E0-497A5067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EE89-145D-4A35-8873-5259A3AC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4E15-076C-45C0-B030-12EFAB1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23D8-CC84-4B47-BD47-4E481481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36BF-CA74-4292-86A4-166F2A9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B19-EAD8-45D4-8496-6D20819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C831-47A3-4DFF-9863-F0443DC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129F-EAB0-41CB-BE4A-7C0CC0BF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7082-61D1-4B55-AC46-0AB5B723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27B5-9536-433D-8B56-6E29BFD8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8723-AD29-4CBF-867B-89BDE7AE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184F-7FEE-499C-9E9D-93F8CCD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9744-5E8C-455E-A108-2541939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13EE-5683-4B7C-9365-82F6AFB6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4990-A163-40F4-ABD8-4754524B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BF7-4E30-4C0E-847D-576AE86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630-784C-47D1-A7D4-D7D390A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390-DC75-4E8B-B89E-42AD682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E0B-7780-40A1-94AD-1003460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D6C-8AEE-427B-843B-1A244B2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F309-DFBA-4279-8398-C4D848FEFEC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A37-88BC-456A-A840-F167E07B1DE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C62C-AB00-4167-B083-226B0A11FFF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FC26-50FB-4FDA-9FC0-B3E9CB199C4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729"/>
                </a:solidFill>
                <a:latin typeface="Comic Sans MS"/>
              </a:rPr>
              <a:t>People’s Republic of China &amp; Korean Wa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729"/>
                </a:solidFill>
                <a:latin typeface="Comic Sans MS"/>
              </a:rPr>
              <a:t>POLITICAL AND GOVERNMENTAL CHANGES DURING THE COLD W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2" descr="http://kinialohaguy.files.wordpress.com/2009/10/mao-zedong.jpg"/>
          <p:cNvPicPr/>
          <p:nvPr/>
        </p:nvPicPr>
        <p:blipFill>
          <a:blip r:embed="rId1"/>
          <a:stretch/>
        </p:blipFill>
        <p:spPr>
          <a:xfrm>
            <a:off x="2209680" y="5562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Kim"/>
          <p:cNvPicPr/>
          <p:nvPr/>
        </p:nvPicPr>
        <p:blipFill>
          <a:blip r:embed="rId2"/>
          <a:stretch/>
        </p:blipFill>
        <p:spPr>
          <a:xfrm>
            <a:off x="3657600" y="5562720"/>
            <a:ext cx="1676520" cy="1295280"/>
          </a:xfrm>
          <a:prstGeom prst="rect">
            <a:avLst/>
          </a:prstGeom>
          <a:ln w="9360">
            <a:solidFill>
              <a:srgbClr val="dc9e1f"/>
            </a:solidFill>
            <a:miter/>
          </a:ln>
        </p:spPr>
      </p:pic>
      <p:pic>
        <p:nvPicPr>
          <p:cNvPr id="171" name="Picture 11" descr="syng280"/>
          <p:cNvPicPr/>
          <p:nvPr/>
        </p:nvPicPr>
        <p:blipFill>
          <a:blip r:embed="rId3"/>
          <a:srcRect l="5400" t="0" r="10813" b="0"/>
          <a:stretch/>
        </p:blipFill>
        <p:spPr>
          <a:xfrm>
            <a:off x="5334120" y="5562720"/>
            <a:ext cx="1600200" cy="1295280"/>
          </a:xfrm>
          <a:prstGeom prst="rect">
            <a:avLst/>
          </a:prstGeom>
          <a:ln w="9360">
            <a:solidFill>
              <a:srgbClr val="dc9e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korean_war_map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UN agreed to send troops under the leadership of General Douglas MacArthu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Picture 5" descr="douglas-macarthur"/>
          <p:cNvPicPr/>
          <p:nvPr/>
        </p:nvPicPr>
        <p:blipFill>
          <a:blip r:embed="rId1"/>
          <a:stretch/>
        </p:blipFill>
        <p:spPr>
          <a:xfrm>
            <a:off x="2971800" y="2666880"/>
            <a:ext cx="3063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cArthur forced the North Korean troops back acros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arall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was convinced that the UN could win only if it invaded Chin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North Korea"/>
          <p:cNvPicPr/>
          <p:nvPr/>
        </p:nvPicPr>
        <p:blipFill>
          <a:blip r:embed="rId1"/>
          <a:stretch/>
        </p:blipFill>
        <p:spPr>
          <a:xfrm>
            <a:off x="762120" y="1143000"/>
            <a:ext cx="288612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The Inchon landing"/>
          <p:cNvPicPr/>
          <p:nvPr/>
        </p:nvPicPr>
        <p:blipFill>
          <a:blip r:embed="rId2"/>
          <a:stretch/>
        </p:blipFill>
        <p:spPr>
          <a:xfrm>
            <a:off x="5257800" y="1143000"/>
            <a:ext cx="2886120" cy="42102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762120" y="5638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North Korean invasion of South Kor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257800" y="5715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N troops push North Korean troops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KOREA   N VS. S VIDEO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The_Korean_War__June_25__1950.asf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ident Truman would not allow General MacArthur to invade China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(Truman fired MacArthu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Picture 5" descr="macarthur-truman"/>
          <p:cNvPicPr/>
          <p:nvPr/>
        </p:nvPicPr>
        <p:blipFill>
          <a:blip r:embed="rId1"/>
          <a:stretch/>
        </p:blipFill>
        <p:spPr>
          <a:xfrm>
            <a:off x="2438280" y="3316320"/>
            <a:ext cx="480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ina sent troops to North Korea to push South Korea and UN troops bac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4" name="Picture 5" descr="Chinese intervention"/>
          <p:cNvPicPr/>
          <p:nvPr/>
        </p:nvPicPr>
        <p:blipFill>
          <a:blip r:embed="rId1"/>
          <a:stretch/>
        </p:blipFill>
        <p:spPr>
          <a:xfrm>
            <a:off x="2971800" y="2647800"/>
            <a:ext cx="27813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July 1953, a cease-fire agreement ended the confli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changes were made in the borders of either coun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Korean War ended in a stalemate (neither side win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The armistice"/>
          <p:cNvPicPr/>
          <p:nvPr/>
        </p:nvPicPr>
        <p:blipFill>
          <a:blip r:embed="rId1"/>
          <a:stretch/>
        </p:blipFill>
        <p:spPr>
          <a:xfrm>
            <a:off x="2895480" y="8380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729"/>
                </a:solidFill>
                <a:latin typeface="Comic Sans MS"/>
              </a:rPr>
              <a:t>PEOPLE’S REPUBLIC OF CHIN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1949; Communist victory in the People’s Republic of Chin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Mao Zedong: lead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Communist China” &amp; “Red China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4" descr="C:\Users\Owner\Pictures\Microsoft Clip Organizer\j0178239.gif"/>
          <p:cNvPicPr/>
          <p:nvPr/>
        </p:nvPicPr>
        <p:blipFill>
          <a:blip r:embed="rId1"/>
          <a:stretch/>
        </p:blipFill>
        <p:spPr>
          <a:xfrm>
            <a:off x="3276720" y="4495680"/>
            <a:ext cx="21715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9e1f"/>
                </a:solidFill>
                <a:latin typeface="Arial Narrow"/>
              </a:rPr>
              <a:t>Post World War II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longed to Japan before World War I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5" descr="i_ie_en_korea_map"/>
          <p:cNvPicPr/>
          <p:nvPr/>
        </p:nvPicPr>
        <p:blipFill>
          <a:blip r:embed="rId1"/>
          <a:stretch/>
        </p:blipFill>
        <p:spPr>
          <a:xfrm>
            <a:off x="2438280" y="2209680"/>
            <a:ext cx="386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orea was divided at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arallel after World War I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7" descr="The 38th parallel"/>
          <p:cNvPicPr/>
          <p:nvPr/>
        </p:nvPicPr>
        <p:blipFill>
          <a:blip r:embed="rId1"/>
          <a:stretch/>
        </p:blipFill>
        <p:spPr>
          <a:xfrm>
            <a:off x="3657600" y="2438280"/>
            <a:ext cx="23814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ORTH 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rth Korea was communist and supported by China (also a communist country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5" descr="north_korea_map"/>
          <p:cNvPicPr/>
          <p:nvPr/>
        </p:nvPicPr>
        <p:blipFill>
          <a:blip r:embed="rId1"/>
          <a:stretch/>
        </p:blipFill>
        <p:spPr>
          <a:xfrm>
            <a:off x="5943600" y="3200400"/>
            <a:ext cx="2790720" cy="3009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north-ko"/>
          <p:cNvPicPr/>
          <p:nvPr/>
        </p:nvPicPr>
        <p:blipFill>
          <a:blip r:embed="rId2"/>
          <a:stretch/>
        </p:blipFill>
        <p:spPr>
          <a:xfrm>
            <a:off x="9144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OUTH 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th Korea was democratic and supported by the United Sta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5" descr="map_of_korea-south"/>
          <p:cNvPicPr/>
          <p:nvPr/>
        </p:nvPicPr>
        <p:blipFill>
          <a:blip r:embed="rId1"/>
          <a:stretch/>
        </p:blipFill>
        <p:spPr>
          <a:xfrm>
            <a:off x="5257800" y="2895480"/>
            <a:ext cx="3143160" cy="336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south_korea"/>
          <p:cNvPicPr/>
          <p:nvPr/>
        </p:nvPicPr>
        <p:blipFill>
          <a:blip r:embed="rId2"/>
          <a:stretch/>
        </p:blipFill>
        <p:spPr>
          <a:xfrm>
            <a:off x="609480" y="320040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952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une 195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rth Korea invaded South Kore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Picture 5" descr="2"/>
          <p:cNvPicPr/>
          <p:nvPr/>
        </p:nvPicPr>
        <p:blipFill>
          <a:blip r:embed="rId1"/>
          <a:stretch/>
        </p:blipFill>
        <p:spPr>
          <a:xfrm>
            <a:off x="2763720" y="2895480"/>
            <a:ext cx="3535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th Korea and the US resisted Chinese and North Korean aggressio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ident Truman asked the United Nations to send armed forc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Picture 5" descr="h96378"/>
          <p:cNvPicPr/>
          <p:nvPr/>
        </p:nvPicPr>
        <p:blipFill>
          <a:blip r:embed="rId1"/>
          <a:stretch/>
        </p:blipFill>
        <p:spPr>
          <a:xfrm>
            <a:off x="2895480" y="3943440"/>
            <a:ext cx="35053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51:42Z</dcterms:created>
  <dc:creator>pecps</dc:creator>
  <dc:description/>
  <dc:language>en-US</dc:language>
  <cp:lastModifiedBy>Vickie J. Dean</cp:lastModifiedBy>
  <dcterms:modified xsi:type="dcterms:W3CDTF">2014-03-20T14:21:05Z</dcterms:modified>
  <cp:revision>13</cp:revision>
  <dc:subject/>
  <dc:title>The Korean War</dc:title>
</cp:coreProperties>
</file>